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0428-3998-46D8-9C42-91483B14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F3F-AC30-45D7-A6C2-7AF64EFB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8BFC-643B-4B19-9ADE-8CEDEA09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8E94-3702-4325-8299-F40A30A6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115-227F-4331-8855-8E4B168F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4E9-F908-4FC6-89E7-12514726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35D-7C85-4913-A4BA-A330A3D2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8DF1-5308-4462-B25B-FEBF3E9D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919A-AB15-489D-98FF-060CC65E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5971-5C03-407B-8E7E-C0FC1993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DB7-763C-4F9D-8A7B-BAA4DBC6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21C6-323A-4F38-B9DD-48C0BD11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3F11-6D7B-441C-BC2B-7B5AA368C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ICo Desig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CE 3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nneth Be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n Com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ick Lums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U Func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rror Adder/Subtr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ation of both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zes mode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overflow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xor-based shi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es multiple supply vol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s modified comparato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rator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-defined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user to select greater or lesser input to 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 equal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for greater versatility of DSP in datapath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al bran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ro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rator Schema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Metric Minimizatio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rror adder sizing (focus of desi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benefit: 12.5ns to 9.5ns (42% quadratic decrease from ripple carry desi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xor based shi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de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buffers at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ation adder/subtr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652µ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ategy (Con’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bits via PMOS, NMOS singl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bits via transmissi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ric = T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 A * P, where P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T * C * Vdd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gives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α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 * A * C * Vdd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Vdd via Level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benefit: 31.08mW to 23.99mW (2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457200" y="49528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Metric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orst-case propogation delay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67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case: Adding 0x7FFF and 0x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power consumption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3.99m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case: A alternating between 0xAAAA and 0x5555 every cycle, B constant at 0xAA55, measured over 8 total clock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calculated area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1,652µ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case: Addition of all transistor wid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Metric Calculation: (9.67ns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(11,652µm) * (23.99mW)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6139 *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01:25:43Z</dcterms:created>
  <dc:creator>ITC Labs and Classrooms</dc:creator>
  <dc:description/>
  <dc:language>en-US</dc:language>
  <cp:lastModifiedBy>Ben Combs</cp:lastModifiedBy>
  <dcterms:modified xsi:type="dcterms:W3CDTF">2008-04-29T16:18:40Z</dcterms:modified>
  <cp:revision>20</cp:revision>
  <dc:subject/>
  <dc:title>PICo Design Project</dc:title>
</cp:coreProperties>
</file>